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B7D-B04F-421B-A05C-BF22D916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507-EF5C-4D27-85AC-D7AB8BC1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7E13-8CF5-48AC-840A-225F7F24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80F-B997-43AA-8376-C9B54D4D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4A6-4942-46F9-BD36-2EADF0C0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728-8181-46FA-8D5B-B5795879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076-D4B0-4C6D-B73E-814021C0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8910-4E03-4ED3-A9AE-C1E716CB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FA0-831E-44F6-836C-BBC6DD2C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C114-9DC5-491D-BBFF-BF80D276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4AF-BDD6-4042-83B8-C31C4B21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DD5-91C0-45C0-98B6-3D2992D2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C9F5-3174-4ABE-B691-B46206AA4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ty Ec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. 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tu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/ 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species gain from their interaction in some w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    Protection     Reproductive adva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ptations can evolve to better suit species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Flowers &amp; pollin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tu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3790800" cy="2837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029200" y="1371600"/>
            <a:ext cx="3809880" cy="2629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876920" y="4019400"/>
            <a:ext cx="42670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ns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/ 0   One benefits, other unaff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difficult to prove since it is rare that any interaction will have no effect on one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can be described as one of the other interactions if carefully analyz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es with High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ant Species: Numerous and exert control by their abundance &amp; skill at acquiring resources &amp; reprodu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gar Maples in North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asive Species: Non-native, introduced naturally or artificially. Have no natural pred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ebra mussels on coasts of Califor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es with High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600" y="9907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stone Species: Exert control by their ability to keep other organisms ‘in check’ or provide a resource vital to the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k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ation Species: Alter the environment physical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477120" y="2743200"/>
            <a:ext cx="2385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urbances &amp; Conseq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event that changes a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spec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disturbances can be benefi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s promote more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ash-floods induce desert blo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urbances &amp; Conseq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disturbances lead to new resources/niches not available bef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result 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condary Succ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sting community is cleared or made more available for other species to re-colon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il remains intact so the problem of re-establishing producers is not sev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urbances &amp; Conseq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result 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imary Succ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sting community is stripped down to a lifeless area.  Lava flow is major c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il is destroyed so must be regene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timely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teria, Lichens &amp; mosses are the pioneer species which begin the formation of soi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s of organisms that live close enough so that interactions can happen between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14800" y="2895480"/>
            <a:ext cx="4286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specific Inter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ons between different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sit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aspecific = Interactions among a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Pl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specific Inter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oted by how each potential species will eb aff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/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/ 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/ 0            - /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/ -   Both species may be harmed/ki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/ -   One species wins while the other los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47920" y="3048120"/>
            <a:ext cx="53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dation &amp; Herbiv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/ -   One species eats while the other is ea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/ -  The predator loses to the prey, therefore does not eat/is harmed while the prey lives on but had to expend energy/sustain damage to stay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502920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477040" y="2743200"/>
            <a:ext cx="366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sit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/ -  One organism obtains its nutrients from the body of a host, leaving the host har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oparasites: Tapew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toparasites: Ti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sitoidism: Species (usually insects) lays eggs on a host and larvae eat the h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943600" y="266688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e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/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s such as bacteria &amp; fungi &amp; vir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ive nutrition or habitat from a host, leaving the host very harmed and perhaps d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952880" y="3962520"/>
            <a:ext cx="40388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9:32:22Z</dcterms:created>
  <dc:creator>leanne</dc:creator>
  <dc:description/>
  <dc:language>en-US</dc:language>
  <cp:lastModifiedBy>NASD</cp:lastModifiedBy>
  <dcterms:modified xsi:type="dcterms:W3CDTF">2010-04-08T12:21:41Z</dcterms:modified>
  <cp:revision>6</cp:revision>
  <dc:subject/>
  <dc:title>Community Ecology</dc:title>
</cp:coreProperties>
</file>